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4D63C-0A7D-45C7-8BEA-FC7C42E94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AF99B-256D-4763-A873-F54D4D52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07AF2-ECFD-4BE9-96FE-E7F91FC02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D6DC8-43AA-46C5-8312-C2C2DDF0A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E071-3C46-4F88-9D45-F593617D7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8B37C-C380-4133-BD55-9FD13D85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8801D-DEF9-4D3A-9F63-607F351B4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F26E7-246C-4991-9D7D-FCE857EAC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82A0E-CD0E-4799-BA9E-84257FE55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8265-883A-490D-B849-F46DA1B62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A6512-EA9F-4895-9FAF-E080DB602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8CE08-F81F-4475-B53C-01845DB6D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058B-2E7D-4620-B211-56B64B9C51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acaqua.org/"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ACIFIC AQUACULTURE CAUCUS</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in E. Nas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retary &amp; Treasur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MEMBERSHIP</a:t>
            </a:r>
            <a:endParaRPr b="0" lang="en-US" sz="4800" spc="-1" strike="noStrike">
              <a:solidFill>
                <a:srgbClr val="ffff00"/>
              </a:solidFill>
              <a:latin typeface="Times New Roman"/>
            </a:endParaRPr>
          </a:p>
        </p:txBody>
      </p:sp>
      <p:sp>
        <p:nvSpPr>
          <p:cNvPr id="61"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MARY MEMBERS - $250 pa</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ARY MEMBERS - $25 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HISTORY</a:t>
            </a:r>
            <a:endParaRPr b="0" lang="en-US" sz="4800" spc="-1" strike="noStrike">
              <a:solidFill>
                <a:srgbClr val="ffff00"/>
              </a:solidFill>
              <a:latin typeface="Times New Roman"/>
            </a:endParaRPr>
          </a:p>
        </p:txBody>
      </p:sp>
      <p:sp>
        <p:nvSpPr>
          <p:cNvPr id="4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NOAA SUMMER OF 1999 AQUACULTURE WORKSHO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 DEPARTMENT-WIDE POLICY FOR MARINE AQUACUL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ME – WORKING TOGETHER ..... TO DEVELOP MARINE AQUACULTURE IN THE 21</a:t>
            </a:r>
            <a:r>
              <a:rPr b="1" lang="en-US" sz="3200" spc="-1" strike="noStrike" baseline="30000">
                <a:solidFill>
                  <a:srgbClr val="ffffff"/>
                </a:solidFill>
                <a:latin typeface="Times New Roman"/>
              </a:rPr>
              <a:t>st</a:t>
            </a:r>
            <a:r>
              <a:rPr b="1" lang="en-US" sz="3200" spc="-1" strike="noStrike">
                <a:solidFill>
                  <a:srgbClr val="ffffff"/>
                </a:solidFill>
                <a:latin typeface="Times New Roman"/>
              </a:rPr>
              <a:t> CENTUR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OC POLICY TARGETS</a:t>
            </a:r>
            <a:endParaRPr b="0" lang="en-US" sz="48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value of domestic production from $900m to $5b to offset the $6b annual trade deficit in seafood</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jobs from 180,000 to 600,000</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exports of goods and services from $500m to $2.5b annually</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Code of Conduct, responsible technologies, enhance depleted stock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BREAK-OUT GROUP</a:t>
            </a:r>
            <a:endParaRPr b="0" lang="en-US" sz="4800" spc="-1" strike="noStrike">
              <a:solidFill>
                <a:srgbClr val="ffff00"/>
              </a:solidFill>
              <a:latin typeface="Times New Roman"/>
            </a:endParaRPr>
          </a:p>
        </p:txBody>
      </p:sp>
      <p:sp>
        <p:nvSpPr>
          <p:cNvPr id="48"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need for National and Regional advocacy for aquacultur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redible, authoritative voice to dispel myths, promote facts, and generally advocate for the sector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AQUACULTURE CAUCUS</a:t>
            </a:r>
            <a:endParaRPr b="0" lang="en-US" sz="4800" spc="-1" strike="noStrike">
              <a:solidFill>
                <a:srgbClr val="ffff00"/>
              </a:solidFill>
              <a:latin typeface="Times New Roman"/>
            </a:endParaRPr>
          </a:p>
        </p:txBody>
      </p:sp>
      <p:sp>
        <p:nvSpPr>
          <p:cNvPr id="50" name="PlaceHolder 2"/>
          <p:cNvSpPr>
            <a:spLocks noGrp="1"/>
          </p:cNvSpPr>
          <p:nvPr>
            <p:ph/>
          </p:nvPr>
        </p:nvSpPr>
        <p:spPr>
          <a:xfrm>
            <a:off x="761760" y="23623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200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orporated in the State of Washingt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rofit Organization under Section 501(c)(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1"/>
              </a:rPr>
              <a:t>www.pacaqua.or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og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1" name="" descr=""/>
          <p:cNvPicPr/>
          <p:nvPr/>
        </p:nvPicPr>
        <p:blipFill>
          <a:blip r:embed="rId2"/>
          <a:stretch/>
        </p:blipFill>
        <p:spPr>
          <a:xfrm>
            <a:off x="5257800" y="1981080"/>
            <a:ext cx="2286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MISSION OF PAC</a:t>
            </a:r>
            <a:endParaRPr b="0" lang="en-US" sz="4800" spc="-1" strike="noStrike">
              <a:solidFill>
                <a:srgbClr val="ffff00"/>
              </a:solidFill>
              <a:latin typeface="Times New Roman"/>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romote economically-viable and environmentally-responsible aquaculture for the Pacific region through sound public policy and best-available scienc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GOAL OF PAC</a:t>
            </a:r>
            <a:endParaRPr b="0" lang="en-US" sz="48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pro-active and transparent organization for collective leadership of aquaculture in the Pacific reg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echanism to assist in the enactment of enabling legislation, guide strategies and policies for development, coordinate and promote activities at all levels, build coalitions and partnerships between stakeholders for common advantage, resolve issues constraining development, and act as the clearing-house for inform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strong advocate for aquaculture, in any of its diverse form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IGHT POINT PLAN</a:t>
            </a:r>
            <a:endParaRPr b="0" lang="en-US" sz="4800" spc="-1" strike="noStrike">
              <a:solidFill>
                <a:srgbClr val="ffff00"/>
              </a:solidFill>
              <a:latin typeface="Times New Roman"/>
            </a:endParaRPr>
          </a:p>
        </p:txBody>
      </p:sp>
      <p:sp>
        <p:nvSpPr>
          <p:cNvPr id="57"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ssist national, state, local, and tribal governments to base regulatory measures on a scientific basi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pport the best use of production systems to ensure development compatible with social and environmental need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cilitate the development and use of best practices and protocols by the industry to minimize all risk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courage coordination and collaboration among stakeholders to fulfill desirable goal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mote, coordinate, and assist programs of scientific research and technical development to make the best use of available resourc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dvise, within its competence, on any matter appropriate to the promotion and development of aquaculture and its product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dertake specific tasks to study and resolve issu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vide a focal point for gathering and disseminating information</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CTIVITIES AND EVENTS</a:t>
            </a:r>
            <a:endParaRPr b="0" lang="en-US" sz="4800" spc="-1" strike="noStrike">
              <a:solidFill>
                <a:srgbClr val="ffff00"/>
              </a:solidFill>
              <a:latin typeface="Times New Roman"/>
            </a:endParaRPr>
          </a:p>
        </p:txBody>
      </p:sp>
      <p:sp>
        <p:nvSpPr>
          <p:cNvPr id="59"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and distributed RESOLUTIONS on National and State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ganized WORKSHOPS on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ducted regular and open BOARD MEETING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0:10:02Z</dcterms:created>
  <dc:creator>Colin E. Nash</dc:creator>
  <dc:description/>
  <dc:language>en-US</dc:language>
  <cp:lastModifiedBy>Colin E. Nash</cp:lastModifiedBy>
  <dcterms:modified xsi:type="dcterms:W3CDTF">2003-11-26T17:28:07Z</dcterms:modified>
  <cp:revision>8</cp:revision>
  <dc:subject/>
  <dc:title>THE PACIFIC AQUACULTURE CAUCUS</dc:title>
</cp:coreProperties>
</file>